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15.wmf" ContentType="image/x-wmf"/>
  <Override PartName="/ppt/media/image14.png" ContentType="image/png"/>
  <Override PartName="/ppt/media/image1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3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202E-1B3B-4593-B91C-2CB414829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8E69-A1A4-4787-9B9D-50BCF4CC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CFF7-3EA3-43F3-A589-46AE8ED20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1F07-9BEA-4045-8641-429BD05AF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0FD5-6961-485F-9E0D-B9E5F682B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A9C3B-515A-4A2E-9B0E-69C07F12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F67D-F90E-4014-9FD6-B2C284C8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14DF4-0F09-460E-8947-A43BEA11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0073-FEF1-48DA-8BA5-45996736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F9277-8095-4CB0-896C-F337F610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A42E5-0566-4FC1-B12C-7E7D10DF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86D6-D550-4024-A26E-9BE44A35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A7B6-D29C-4BD2-AB3A-1109D293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7ED0-F12A-4E0D-B026-1D34A8B9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9384-DBA1-413D-A548-1F63FB54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9952-B051-470A-AF25-2C1AFFBE1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F507-13B0-424E-AF6C-95F95C84D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BF84A-45F0-4CCF-82E2-1B11DD06E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D6A65-FC25-43E0-BA53-E7C4AC0A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A6D68-2F57-4E60-AAD2-5179C6FF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BC33C-C3C7-4D68-A4DE-7FD528DD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97C69-E11C-4F41-AC14-D609FE03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21E1-ACFD-4EB7-84B9-D1B1788D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2DB72-4B0B-4E45-9313-A642146C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261D1-5CCA-4D59-B7E3-8A9BFBC0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075D1-C1A8-43C9-AC11-C9A6C634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74E35-C8BE-4A72-AAB5-B6C6BF81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6C65C-4639-4882-9CCD-FE41543F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BBD44-C1BB-4D15-8F93-2FC5EDA21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20F56-6B7D-4A2F-9D1A-07E37F9DE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161701-8845-4913-A2BC-47367CE5E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210779-7E95-44B7-A0BB-6A3E5E19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30BD31-0C0E-42D7-AFB0-3C928499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73C0-920A-4D99-8730-D715CF03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662DE6-F0CA-4E06-9F59-4FD16BDC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FB448B-B881-4FDD-A96C-92A5C01E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34A9DB-1240-496A-AC6E-3C9851C3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DF009A-543F-4932-BF07-A1E4F3F5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D2098F-9683-42B5-85BD-F691D542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14AB62-0D2F-439E-8162-9FAEAF16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BB9C63-2278-49E9-AA3E-C3023F82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655A59-C0EC-4228-99EE-FF475F15F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F915AF-0107-44ED-AC65-A3AA8677D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5996B-0C36-4F36-A703-D62EA5D50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C8EE-9DA7-49EC-96AC-F21165FA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E58B9-F820-4E82-A581-C8621A5A1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721FC-EEE0-4C01-A1E2-70072520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6A00F-3CC8-44ED-A6F0-6BCF93ED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223CF-5233-4BA3-B5BE-CC275A76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FA857-9125-4B79-9EA5-323DA0B5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18622-9C51-4585-A54C-216C2BB2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61D03-C658-4A83-85FA-81DBA778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6F30F-B81A-401B-8532-06F24CAF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EE108-4259-4F85-A5EB-7BD9D333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F8045-9F94-47C4-838A-DCE8996AA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848E-5852-4228-AB31-D9C2DD8D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3BC29-0279-4EB2-A1ED-CFFA32E69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8D5EE-4D56-4AC2-A458-0DB0251E1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8BAA7-3A69-4F90-9502-5A133299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9CB06-9662-4B3D-ACDE-3DB1AF7B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DA2FF-575D-40A5-9425-FCA5624A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97E2A-6401-42E8-9DAB-9ED11B7E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D5B2D-C565-4BD3-95F6-7DAC6EDF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25B26-5427-4CAA-A783-9F16D2AD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492FF-E726-4AFB-8065-64F0694C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59139-6D03-4769-A10F-0E28D0C2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8A0D-73C7-4BE0-8334-BAE0A389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DE3EF-2643-4BC9-896F-A139686B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3F6A7-0D67-40EB-8DD0-8ECDBE71A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854E6-ADCA-441F-A370-E3870A006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4E8D3-91EB-4E6B-8812-05B21A5F8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96334-D0CC-406F-843F-DFEAD0D3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00527-BC6B-4BEC-A463-1FC92F21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3A342-4377-4E28-A979-FB00D9C5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668FD-7CA5-483C-85C0-1D0D2288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C93BD-1FD7-4D68-AFE5-EC7D7B09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47CC7-18FF-41F9-AF12-643CC8C6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402C-4F3B-459B-8D3D-FFDC5F07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E3415-0B67-4EA3-9352-26B9E8B8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B8134-DEA4-48FD-AFA3-78AE2A9F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D8786-2DAB-469A-AF12-9666E9D4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BEBFE-8561-4260-8670-81D450AC0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A86CB-A266-4578-8B99-5D287C175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2BB6A-2B55-4F07-BAC7-DC493BB1E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BCD8D-3DD1-4C64-B893-6545B6DB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C0BAF-4CD0-454A-B33E-AD835F80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6D2CB-466F-4817-B073-CDA0AB5C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12B94-C0F8-4175-9C0B-DF166A74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9292-1C28-4195-9641-C68EDCA9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529CB-22AE-4FC4-91CE-5822F935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901E6-0D5B-4299-9068-085EE512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E41C3-56CC-4117-A7F5-39390113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5BFBC-CEAA-4275-89CF-AA7E01B8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FF36F-D9ED-45AB-9CBF-B0EA795D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BFB77-F0E3-48FB-A201-A2B6E7E3E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DC470-21BA-479E-94C6-FD8629C84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5EC2350-E7A6-444E-B62C-D3907F1CD74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EB9B282-74E0-4AE6-9C46-82B7C380DE7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3F9A707-797F-40A2-AEBC-10CF3BBC843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Master text styl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econd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Third level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Fourth level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Fifth level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11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FFEEE53-E12E-4F59-A054-B5BC9CC0E7F8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2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200" spc="-100" strike="noStrike">
                <a:solidFill>
                  <a:srgbClr val="f9f9f9"/>
                </a:solidFill>
                <a:latin typeface="Constantia"/>
              </a:rPr>
              <a:t>Click to edit Master title style</a:t>
            </a:r>
            <a:endParaRPr b="0" lang="en-US" sz="4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reeform 6"/>
          <p:cNvSpPr/>
          <p:nvPr/>
        </p:nvSpPr>
        <p:spPr>
          <a:xfrm>
            <a:off x="-9360" y="-792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Freeform 7"/>
          <p:cNvSpPr/>
          <p:nvPr/>
        </p:nvSpPr>
        <p:spPr>
          <a:xfrm>
            <a:off x="4381560" y="-792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66" name="Group 1"/>
          <p:cNvGrpSpPr/>
          <p:nvPr/>
        </p:nvGrpSpPr>
        <p:grpSpPr>
          <a:xfrm>
            <a:off x="-29160" y="-15480"/>
            <a:ext cx="9197640" cy="1084680"/>
            <a:chOff x="-29160" y="-15480"/>
            <a:chExt cx="9197640" cy="1084680"/>
          </a:xfrm>
        </p:grpSpPr>
        <p:sp>
          <p:nvSpPr>
            <p:cNvPr id="167" name="Freeform 11"/>
            <p:cNvSpPr/>
            <p:nvPr/>
          </p:nvSpPr>
          <p:spPr>
            <a:xfrm rot="21435600">
              <a:off x="-18720" y="203040"/>
              <a:ext cx="9162720" cy="64728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68" name="Freeform 12"/>
            <p:cNvSpPr/>
            <p:nvPr/>
          </p:nvSpPr>
          <p:spPr>
            <a:xfrm rot="21435600">
              <a:off x="-14040" y="276120"/>
              <a:ext cx="9175320" cy="52884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5600" spc="-1" strike="noStrike">
                <a:solidFill>
                  <a:srgbClr val="50e0ea"/>
                </a:solidFill>
                <a:latin typeface="Calibri"/>
              </a:rPr>
              <a:t>Click to edit Master title style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5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ADAC65D-EB40-43BE-9678-BA3BFF82328E}" type="slidenum"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reeform 6"/>
          <p:cNvSpPr/>
          <p:nvPr/>
        </p:nvSpPr>
        <p:spPr>
          <a:xfrm>
            <a:off x="-9360" y="-792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Freeform 7"/>
          <p:cNvSpPr/>
          <p:nvPr/>
        </p:nvSpPr>
        <p:spPr>
          <a:xfrm>
            <a:off x="4381560" y="-792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12" name="Group 1"/>
          <p:cNvGrpSpPr/>
          <p:nvPr/>
        </p:nvGrpSpPr>
        <p:grpSpPr>
          <a:xfrm>
            <a:off x="-29160" y="-15480"/>
            <a:ext cx="9197640" cy="1084680"/>
            <a:chOff x="-29160" y="-15480"/>
            <a:chExt cx="9197640" cy="1084680"/>
          </a:xfrm>
        </p:grpSpPr>
        <p:sp>
          <p:nvSpPr>
            <p:cNvPr id="213" name="Freeform 11"/>
            <p:cNvSpPr/>
            <p:nvPr/>
          </p:nvSpPr>
          <p:spPr>
            <a:xfrm rot="21435600">
              <a:off x="-18720" y="203040"/>
              <a:ext cx="9162720" cy="64728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14" name="Freeform 12"/>
            <p:cNvSpPr/>
            <p:nvPr/>
          </p:nvSpPr>
          <p:spPr>
            <a:xfrm rot="21435600">
              <a:off x="-14040" y="276120"/>
              <a:ext cx="9175320" cy="52884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Master title style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935000"/>
            <a:ext cx="8229240" cy="438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72880" indent="-27288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624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hird leve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lnSpc>
                <a:spcPct val="100000"/>
              </a:lnSpc>
              <a:spcBef>
                <a:spcPts val="40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573B35B-4CD9-471D-9026-ECC7308A324D}" type="slidenum"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3998DEC-2266-4B14-AFA3-0CF8CFE3885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dt" idx="22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sldNum" idx="2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F3FA4FF-85DA-4FFA-91A1-7338BB4F986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86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6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3936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rimester 1 Review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371600" y="22248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6960" y="1066680"/>
            <a:ext cx="7851240" cy="9140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1836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5600" spc="-1" strike="noStrike">
                <a:solidFill>
                  <a:srgbClr val="20c9f8"/>
                </a:solidFill>
                <a:latin typeface="Calibri"/>
              </a:rPr>
              <a:t>Characteristics of Life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304920" y="2286000"/>
            <a:ext cx="8534160" cy="3504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18360" anchor="t">
            <a:noAutofit/>
          </a:bodyPr>
          <a:p>
            <a:pPr marL="571680" indent="-571680">
              <a:lnSpc>
                <a:spcPct val="100000"/>
              </a:lnSpc>
              <a:spcBef>
                <a:spcPts val="879"/>
              </a:spcBef>
              <a:buClr>
                <a:srgbClr val="0bd0d9"/>
              </a:buClr>
              <a:buSzPct val="95000"/>
              <a:buFont typeface="Arial"/>
              <a:buChar char="•"/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All living things must have </a:t>
            </a: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ALL SIX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879"/>
              </a:spcBef>
              <a:buClr>
                <a:srgbClr val="0bd0d9"/>
              </a:buClr>
              <a:buSzPct val="95000"/>
              <a:buFont typeface="Arial"/>
              <a:buChar char="•"/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If even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Narrow"/>
              </a:rPr>
              <a:t>one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 is missing it CANNOT be considered aliv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879"/>
              </a:spcBef>
              <a:buClr>
                <a:srgbClr val="0bd0d9"/>
              </a:buClr>
              <a:buSzPct val="95000"/>
              <a:buFont typeface="Arial"/>
              <a:buChar char="•"/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List them on the next 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sldNum" idx="25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40AA6C7-257A-4416-AB75-F1BEE1230FD0}" type="slidenum">
              <a:rPr b="0" lang="en-US" sz="1200" spc="-1" strike="noStrike">
                <a:solidFill>
                  <a:srgbClr val="035c75"/>
                </a:solidFill>
                <a:latin typeface="Constantia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Picture 4" descr=""/>
          <p:cNvPicPr/>
          <p:nvPr/>
        </p:nvPicPr>
        <p:blipFill>
          <a:blip r:embed="rId1"/>
          <a:stretch/>
        </p:blipFill>
        <p:spPr>
          <a:xfrm>
            <a:off x="7860960" y="0"/>
            <a:ext cx="1282680" cy="13712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6" descr=""/>
          <p:cNvPicPr/>
          <p:nvPr/>
        </p:nvPicPr>
        <p:blipFill>
          <a:blip r:embed="rId2"/>
          <a:stretch/>
        </p:blipFill>
        <p:spPr>
          <a:xfrm>
            <a:off x="6908760" y="4083480"/>
            <a:ext cx="2234880" cy="21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-37440" y="762120"/>
            <a:ext cx="9143640" cy="1218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5000" spc="-1" strike="noStrike">
                <a:solidFill>
                  <a:srgbClr val="c00000"/>
                </a:solidFill>
                <a:latin typeface="Calibri"/>
              </a:rPr>
              <a:t>CHARACTERISTICS OF LIFE</a:t>
            </a:r>
            <a:br>
              <a:rPr sz="5000"/>
            </a:b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(requirements for something to be considered living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52280" y="2133720"/>
            <a:ext cx="8991360" cy="4694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743040" indent="-743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Calibri"/>
              <a:buAutoNum type="arabicPeriod"/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Calibri"/>
              <a:buAutoNum type="arabicPeriod"/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Calibri"/>
              <a:buAutoNum type="arabicPeriod"/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Calibri"/>
              <a:buAutoNum type="arabicPeriod"/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Calibri"/>
              <a:buAutoNum type="arabicPeriod"/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Calibri"/>
              <a:buAutoNum type="arabicPeriod"/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sldNum" idx="2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6D15B50-1A6C-4632-84CD-7F13BA211447}" type="slidenum">
              <a:rPr b="0" lang="en-US" sz="1200" spc="-1" strike="noStrike">
                <a:solidFill>
                  <a:srgbClr val="035c75"/>
                </a:solidFill>
                <a:latin typeface="Constantia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240" cy="742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Living vs. Non-Living Examples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7" name="Content Placeholder 4" descr="Living Things.jpg"/>
          <p:cNvPicPr/>
          <p:nvPr/>
        </p:nvPicPr>
        <p:blipFill>
          <a:blip r:embed="rId1"/>
          <a:srcRect l="0" t="-8305" r="0" b="-8305"/>
          <a:stretch/>
        </p:blipFill>
        <p:spPr>
          <a:xfrm>
            <a:off x="33480" y="1447920"/>
            <a:ext cx="9110160" cy="5105160"/>
          </a:xfrm>
          <a:prstGeom prst="rect">
            <a:avLst/>
          </a:prstGeom>
          <a:ln w="9525">
            <a:noFill/>
          </a:ln>
        </p:spPr>
      </p:pic>
      <p:sp>
        <p:nvSpPr>
          <p:cNvPr id="378" name="PlaceHolder 2"/>
          <p:cNvSpPr>
            <a:spLocks noGrp="1"/>
          </p:cNvSpPr>
          <p:nvPr>
            <p:ph type="sldNum" idx="27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4D74724-8EE1-4D61-95BE-51AB0B4AC6E4}" type="slidenum">
              <a:rPr b="0" lang="en-US" sz="1200" spc="-1" strike="noStrike">
                <a:solidFill>
                  <a:srgbClr val="035c75"/>
                </a:solidFill>
                <a:latin typeface="Constantia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2760" cy="22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Plant Cells or Animal Cells?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t a “P” by Plant Cell descripti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t an “A” by Animal Cell descri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648320" y="2367360"/>
            <a:ext cx="396216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. ____ Rand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. ____ Recognizable Sha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. ____ “Neat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. ____ “Messy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0. ____ Rows &amp; Colum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Content Placeholder 2"/>
          <p:cNvSpPr/>
          <p:nvPr/>
        </p:nvSpPr>
        <p:spPr>
          <a:xfrm>
            <a:off x="1143000" y="2359080"/>
            <a:ext cx="2895120" cy="43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200000"/>
              </a:lnSpc>
              <a:spcBef>
                <a:spcPts val="479"/>
              </a:spcBef>
              <a:spcAft>
                <a:spcPts val="601"/>
              </a:spcAft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 ____ No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479"/>
              </a:spcBef>
              <a:spcAft>
                <a:spcPts val="601"/>
              </a:spcAft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 ____ Organ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479"/>
              </a:spcBef>
              <a:spcAft>
                <a:spcPts val="601"/>
              </a:spcAft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. ____ “Blob”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479"/>
              </a:spcBef>
              <a:spcAft>
                <a:spcPts val="601"/>
              </a:spcAft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7. ____ St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479"/>
              </a:spcBef>
              <a:spcAft>
                <a:spcPts val="601"/>
              </a:spcAft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9. ____ Odd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2" name="Table 3"/>
          <p:cNvGraphicFramePr/>
          <p:nvPr/>
        </p:nvGraphicFramePr>
        <p:xfrm>
          <a:off x="380880" y="1295280"/>
          <a:ext cx="8381520" cy="5257440"/>
        </p:xfrm>
        <a:graphic>
          <a:graphicData uri="http://schemas.openxmlformats.org/drawingml/2006/table">
            <a:tbl>
              <a:tblPr/>
              <a:tblGrid>
                <a:gridCol w="3371040"/>
                <a:gridCol w="5010480"/>
              </a:tblGrid>
              <a:tr h="902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ell Par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unction/Jo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103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d0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d0cf"/>
                    </a:solidFill>
                  </a:tcPr>
                </a:tc>
              </a:tr>
              <a:tr h="1203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2046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d0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d0cf"/>
                    </a:solidFill>
                  </a:tcPr>
                </a:tc>
              </a:tr>
            </a:tbl>
          </a:graphicData>
        </a:graphic>
      </p:graphicFrame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19960" y="152280"/>
            <a:ext cx="8669520" cy="8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THREE cell parts that can be found ONLY in plant cells?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do they do (what is their job)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Group 23"/>
          <p:cNvGraphicFramePr/>
          <p:nvPr/>
        </p:nvGraphicFramePr>
        <p:xfrm>
          <a:off x="0" y="1092600"/>
          <a:ext cx="9143640" cy="5673240"/>
        </p:xfrm>
        <a:graphic>
          <a:graphicData uri="http://schemas.openxmlformats.org/drawingml/2006/table">
            <a:tbl>
              <a:tblPr/>
              <a:tblGrid>
                <a:gridCol w="3217320"/>
                <a:gridCol w="2878560"/>
                <a:gridCol w="3047760"/>
              </a:tblGrid>
              <a:tr h="1432440">
                <a:tc>
                  <a:txBody>
                    <a:bodyPr tIns="45360" bIns="4536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ＭＳ Ｐゴシック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ell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</a:tabLst>
                      </a:pPr>
                      <a:r>
                        <a:rPr b="1" lang="en-US" sz="4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ＭＳ Ｐゴシック"/>
                        </a:rPr>
                        <a:t>Wal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ell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</a:tabLst>
                      </a:pPr>
                      <a:r>
                        <a:rPr b="1" lang="en-US" sz="4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ＭＳ Ｐゴシック"/>
                        </a:rPr>
                        <a:t>Membran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08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ell Type/Loca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(plant, animal, both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ＭＳ Ｐゴシック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ＭＳ Ｐゴシック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08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tructur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(what it’s lik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ＭＳ Ｐゴシック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ＭＳ Ｐゴシック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264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Function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(what it do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ＭＳ Ｐゴシック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ＭＳ Ｐゴシック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5" name="Text Box 24"/>
          <p:cNvSpPr/>
          <p:nvPr/>
        </p:nvSpPr>
        <p:spPr>
          <a:xfrm>
            <a:off x="533520" y="152280"/>
            <a:ext cx="8229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lete the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8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Plant or Animal Cell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Picture 2" descr="http://t1.gstatic.com/images?q=tbn:ANd9GcQ9mapYYTGz2k_EJ9QzTUGg7zQW5vOffKWI6vGxr4ljMMMGc-JQ6Q"/>
          <p:cNvPicPr/>
          <p:nvPr/>
        </p:nvPicPr>
        <p:blipFill>
          <a:blip r:embed="rId1"/>
          <a:stretch/>
        </p:blipFill>
        <p:spPr>
          <a:xfrm>
            <a:off x="6172200" y="762120"/>
            <a:ext cx="1969920" cy="20966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6" descr="http://t2.gstatic.com/images?q=tbn:ANd9GcTAIffyUuSi-CGgdq6bq4VOlJwWnH4t-Gn6A0Peuru6-3kRl6dxZw"/>
          <p:cNvPicPr/>
          <p:nvPr/>
        </p:nvPicPr>
        <p:blipFill>
          <a:blip r:embed="rId2"/>
          <a:stretch/>
        </p:blipFill>
        <p:spPr>
          <a:xfrm>
            <a:off x="5488200" y="3781080"/>
            <a:ext cx="2969640" cy="21956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0" descr="http://t3.gstatic.com/images?q=tbn:ANd9GcQeoZ2wuUg2xO0Zd5F4QwTa1gXs9mccZcMZMzPGkhEuun42GsKlyA"/>
          <p:cNvPicPr/>
          <p:nvPr/>
        </p:nvPicPr>
        <p:blipFill>
          <a:blip r:embed="rId3"/>
          <a:stretch/>
        </p:blipFill>
        <p:spPr>
          <a:xfrm>
            <a:off x="304920" y="3006360"/>
            <a:ext cx="4181400" cy="2818080"/>
          </a:xfrm>
          <a:prstGeom prst="rect">
            <a:avLst/>
          </a:prstGeom>
          <a:ln w="0">
            <a:noFill/>
          </a:ln>
        </p:spPr>
      </p:pic>
      <p:sp>
        <p:nvSpPr>
          <p:cNvPr id="390" name="Title 4"/>
          <p:cNvSpPr/>
          <p:nvPr/>
        </p:nvSpPr>
        <p:spPr>
          <a:xfrm>
            <a:off x="152280" y="609480"/>
            <a:ext cx="6171840" cy="22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How do you kn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(What is there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(What is not there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itle 4"/>
          <p:cNvSpPr/>
          <p:nvPr/>
        </p:nvSpPr>
        <p:spPr>
          <a:xfrm>
            <a:off x="370080" y="5824800"/>
            <a:ext cx="3775320" cy="8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itle 4"/>
          <p:cNvSpPr/>
          <p:nvPr/>
        </p:nvSpPr>
        <p:spPr>
          <a:xfrm>
            <a:off x="5060520" y="5977440"/>
            <a:ext cx="3775320" cy="8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itle 4"/>
          <p:cNvSpPr/>
          <p:nvPr/>
        </p:nvSpPr>
        <p:spPr>
          <a:xfrm>
            <a:off x="5303520" y="2587320"/>
            <a:ext cx="3775320" cy="8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924320" cy="129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Plant Cells or Animal Cell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How do you know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Picture 12" descr="http://t1.gstatic.com/images?q=tbn:ANd9GcRrygZuwqZRA4rRFy2eep9oS-5lx8rfcUUpeBSRF3zBYMIBltwwkA"/>
          <p:cNvPicPr/>
          <p:nvPr/>
        </p:nvPicPr>
        <p:blipFill>
          <a:blip r:embed="rId1"/>
          <a:stretch/>
        </p:blipFill>
        <p:spPr>
          <a:xfrm>
            <a:off x="1066680" y="1676520"/>
            <a:ext cx="1622160" cy="16221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4" descr="http://t3.gstatic.com/images?q=tbn:ANd9GcTXzN1J-qgkDWJsO8gEYhn7PDgTJgX17Fi5P2TnXKtLsMWEKrHj"/>
          <p:cNvPicPr/>
          <p:nvPr/>
        </p:nvPicPr>
        <p:blipFill>
          <a:blip r:embed="rId2"/>
          <a:stretch/>
        </p:blipFill>
        <p:spPr>
          <a:xfrm>
            <a:off x="5568120" y="4191120"/>
            <a:ext cx="2382120" cy="17841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"/>
          <p:cNvPicPr/>
          <p:nvPr/>
        </p:nvPicPr>
        <p:blipFill>
          <a:blip r:embed="rId3"/>
          <a:stretch/>
        </p:blipFill>
        <p:spPr>
          <a:xfrm>
            <a:off x="922680" y="4340160"/>
            <a:ext cx="2457360" cy="16351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5" descr=""/>
          <p:cNvPicPr/>
          <p:nvPr/>
        </p:nvPicPr>
        <p:blipFill>
          <a:blip r:embed="rId4"/>
          <a:stretch/>
        </p:blipFill>
        <p:spPr>
          <a:xfrm>
            <a:off x="5421240" y="1752480"/>
            <a:ext cx="2529000" cy="1465560"/>
          </a:xfrm>
          <a:prstGeom prst="rect">
            <a:avLst/>
          </a:prstGeom>
          <a:ln w="0">
            <a:noFill/>
          </a:ln>
        </p:spPr>
      </p:pic>
      <p:sp>
        <p:nvSpPr>
          <p:cNvPr id="399" name="Title 4"/>
          <p:cNvSpPr/>
          <p:nvPr/>
        </p:nvSpPr>
        <p:spPr>
          <a:xfrm>
            <a:off x="0" y="3212280"/>
            <a:ext cx="3775320" cy="8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itle 4"/>
          <p:cNvSpPr/>
          <p:nvPr/>
        </p:nvSpPr>
        <p:spPr>
          <a:xfrm>
            <a:off x="5004720" y="3205800"/>
            <a:ext cx="3775320" cy="8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itle 4"/>
          <p:cNvSpPr/>
          <p:nvPr/>
        </p:nvSpPr>
        <p:spPr>
          <a:xfrm>
            <a:off x="0" y="5975640"/>
            <a:ext cx="3775320" cy="8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4"/>
          <p:cNvSpPr/>
          <p:nvPr/>
        </p:nvSpPr>
        <p:spPr>
          <a:xfrm>
            <a:off x="5002920" y="5975640"/>
            <a:ext cx="3775320" cy="8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ive two reasons that cells need to divid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1200240" indent="-7430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1200240" indent="-7430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re the cells formed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identical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different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? (circle on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2"/>
          <p:cNvSpPr/>
          <p:nvPr/>
        </p:nvSpPr>
        <p:spPr>
          <a:xfrm>
            <a:off x="533520" y="22860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ll Di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5" descr=""/>
          <p:cNvPicPr/>
          <p:nvPr/>
        </p:nvPicPr>
        <p:blipFill>
          <a:blip r:embed="rId1"/>
          <a:srcRect l="11239" t="1329" r="20605" b="11543"/>
          <a:stretch/>
        </p:blipFill>
        <p:spPr>
          <a:xfrm>
            <a:off x="3733920" y="4671360"/>
            <a:ext cx="1194120" cy="1526760"/>
          </a:xfrm>
          <a:prstGeom prst="rect">
            <a:avLst/>
          </a:prstGeom>
          <a:ln w="0">
            <a:noFill/>
          </a:ln>
        </p:spPr>
      </p:pic>
      <p:grpSp>
        <p:nvGrpSpPr>
          <p:cNvPr id="406" name="Group 2"/>
          <p:cNvGrpSpPr/>
          <p:nvPr/>
        </p:nvGrpSpPr>
        <p:grpSpPr>
          <a:xfrm>
            <a:off x="2895480" y="1828800"/>
            <a:ext cx="3352680" cy="1142640"/>
            <a:chOff x="2895480" y="1828800"/>
            <a:chExt cx="3352680" cy="1142640"/>
          </a:xfrm>
        </p:grpSpPr>
        <p:pic>
          <p:nvPicPr>
            <p:cNvPr id="407" name="Picture 4" descr="MC900434841[1]"/>
            <p:cNvPicPr/>
            <p:nvPr/>
          </p:nvPicPr>
          <p:blipFill>
            <a:blip r:embed="rId2"/>
            <a:stretch/>
          </p:blipFill>
          <p:spPr>
            <a:xfrm>
              <a:off x="4038480" y="1828800"/>
              <a:ext cx="1099440" cy="11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AutoShape 5"/>
            <p:cNvSpPr/>
            <p:nvPr/>
          </p:nvSpPr>
          <p:spPr>
            <a:xfrm>
              <a:off x="2895480" y="2286000"/>
              <a:ext cx="1172880" cy="228240"/>
            </a:xfrm>
            <a:prstGeom prst="rightArrow">
              <a:avLst>
                <a:gd name="adj1" fmla="val 50000"/>
                <a:gd name="adj2" fmla="val 133333"/>
              </a:avLst>
            </a:prstGeom>
            <a:solidFill>
              <a:schemeClr val="tx1"/>
            </a:solidFill>
            <a:ln w="9525">
              <a:solidFill>
                <a:srgbClr val="070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AutoShape 6"/>
            <p:cNvSpPr/>
            <p:nvPr/>
          </p:nvSpPr>
          <p:spPr>
            <a:xfrm>
              <a:off x="5075280" y="2286000"/>
              <a:ext cx="1172880" cy="228240"/>
            </a:xfrm>
            <a:prstGeom prst="rightArrow">
              <a:avLst>
                <a:gd name="adj1" fmla="val 50000"/>
                <a:gd name="adj2" fmla="val 133333"/>
              </a:avLst>
            </a:prstGeom>
            <a:solidFill>
              <a:schemeClr val="tx1"/>
            </a:solidFill>
            <a:ln w="9525">
              <a:solidFill>
                <a:srgbClr val="070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Group 3"/>
          <p:cNvGrpSpPr/>
          <p:nvPr/>
        </p:nvGrpSpPr>
        <p:grpSpPr>
          <a:xfrm>
            <a:off x="2819520" y="5334120"/>
            <a:ext cx="3504960" cy="228240"/>
            <a:chOff x="2819520" y="5334120"/>
            <a:chExt cx="3504960" cy="228240"/>
          </a:xfrm>
        </p:grpSpPr>
        <p:sp>
          <p:nvSpPr>
            <p:cNvPr id="411" name="AutoShape 8"/>
            <p:cNvSpPr/>
            <p:nvPr/>
          </p:nvSpPr>
          <p:spPr>
            <a:xfrm>
              <a:off x="2819520" y="5334120"/>
              <a:ext cx="1122120" cy="228240"/>
            </a:xfrm>
            <a:prstGeom prst="rightArrow">
              <a:avLst>
                <a:gd name="adj1" fmla="val 50000"/>
                <a:gd name="adj2" fmla="val 133333"/>
              </a:avLst>
            </a:prstGeom>
            <a:solidFill>
              <a:schemeClr val="tx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AutoShape 9"/>
            <p:cNvSpPr/>
            <p:nvPr/>
          </p:nvSpPr>
          <p:spPr>
            <a:xfrm>
              <a:off x="5202360" y="5334120"/>
              <a:ext cx="1122120" cy="228240"/>
            </a:xfrm>
            <a:prstGeom prst="rightArrow">
              <a:avLst>
                <a:gd name="adj1" fmla="val 50000"/>
                <a:gd name="adj2" fmla="val 133333"/>
              </a:avLst>
            </a:prstGeom>
            <a:solidFill>
              <a:schemeClr val="tx1"/>
            </a:solidFill>
            <a:ln w="9525">
              <a:solidFill>
                <a:srgbClr val="070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13" name="Straight Connector 4"/>
          <p:cNvCxnSpPr/>
          <p:nvPr/>
        </p:nvCxnSpPr>
        <p:spPr>
          <a:xfrm>
            <a:off x="0" y="3886200"/>
            <a:ext cx="9144360" cy="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14" name="TextBox 6"/>
          <p:cNvSpPr/>
          <p:nvPr/>
        </p:nvSpPr>
        <p:spPr>
          <a:xfrm>
            <a:off x="6400800" y="1143000"/>
            <a:ext cx="2742840" cy="243792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15" name="TextBox 15"/>
          <p:cNvSpPr/>
          <p:nvPr/>
        </p:nvSpPr>
        <p:spPr>
          <a:xfrm>
            <a:off x="6400800" y="4267080"/>
            <a:ext cx="2742840" cy="243792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16" name="TextBox 16"/>
          <p:cNvSpPr/>
          <p:nvPr/>
        </p:nvSpPr>
        <p:spPr>
          <a:xfrm>
            <a:off x="0" y="1143000"/>
            <a:ext cx="2742840" cy="243792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17" name="TextBox 17"/>
          <p:cNvSpPr/>
          <p:nvPr/>
        </p:nvSpPr>
        <p:spPr>
          <a:xfrm>
            <a:off x="-8280" y="4267080"/>
            <a:ext cx="2742840" cy="243792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3429000" y="1143000"/>
            <a:ext cx="2514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20"/>
          <p:cNvSpPr/>
          <p:nvPr/>
        </p:nvSpPr>
        <p:spPr>
          <a:xfrm>
            <a:off x="3667320" y="4114800"/>
            <a:ext cx="19594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21"/>
          <p:cNvSpPr/>
          <p:nvPr/>
        </p:nvSpPr>
        <p:spPr>
          <a:xfrm>
            <a:off x="3429000" y="3048120"/>
            <a:ext cx="2514240" cy="63828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ll Pa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22"/>
          <p:cNvSpPr/>
          <p:nvPr/>
        </p:nvSpPr>
        <p:spPr>
          <a:xfrm>
            <a:off x="3429000" y="6211800"/>
            <a:ext cx="2514240" cy="63828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ll Pa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2"/>
          <p:cNvSpPr/>
          <p:nvPr/>
        </p:nvSpPr>
        <p:spPr>
          <a:xfrm>
            <a:off x="0" y="1143000"/>
            <a:ext cx="27428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OES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6"/>
          <p:cNvSpPr/>
          <p:nvPr/>
        </p:nvSpPr>
        <p:spPr>
          <a:xfrm>
            <a:off x="0" y="4267080"/>
            <a:ext cx="27428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OES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7"/>
          <p:cNvSpPr/>
          <p:nvPr/>
        </p:nvSpPr>
        <p:spPr>
          <a:xfrm>
            <a:off x="6400800" y="4267080"/>
            <a:ext cx="27428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ES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28"/>
          <p:cNvSpPr/>
          <p:nvPr/>
        </p:nvSpPr>
        <p:spPr>
          <a:xfrm>
            <a:off x="6400800" y="1143000"/>
            <a:ext cx="27428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ES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2"/>
          <p:cNvSpPr/>
          <p:nvPr/>
        </p:nvSpPr>
        <p:spPr>
          <a:xfrm>
            <a:off x="304920" y="152280"/>
            <a:ext cx="8991360" cy="6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rmAutofit fontScale="88000"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-R “Quick Check”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4" descr="MC900434841[1]"/>
          <p:cNvPicPr/>
          <p:nvPr/>
        </p:nvPicPr>
        <p:blipFill>
          <a:blip r:embed="rId3"/>
          <a:stretch/>
        </p:blipFill>
        <p:spPr>
          <a:xfrm>
            <a:off x="4386600" y="4991040"/>
            <a:ext cx="1099440" cy="114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217800"/>
            <a:ext cx="7772040" cy="99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Topic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075680" y="1210320"/>
            <a:ext cx="7111800" cy="51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oms, Molecules, Elements, Compounds (AME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acteristics of Life (all 6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 vs. Animal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otosynthesis &amp; Respi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4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Additional Study Ques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152280" y="973800"/>
            <a:ext cx="8838720" cy="565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hoto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What i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urpose (product) of photosynthes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What type of cells do photosynthes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  Where in the cell does photosynthesis happen? (What cell part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4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Additional Study Ques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152280" y="973800"/>
            <a:ext cx="8838720" cy="565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  What i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urpose (product) of respir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.  What type of cells do respir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.  Where in the cell does respiration take place? (What cell part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4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Additional Study Ques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152280" y="973800"/>
            <a:ext cx="8838720" cy="565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hotosynthesis &amp;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.  What is the relationship between photosynthesis and respira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Hint: Fill in the picture to help you see the relationship,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then describe it in word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4" descr="P-R Cycle Picture (Blank).png"/>
          <p:cNvPicPr/>
          <p:nvPr/>
        </p:nvPicPr>
        <p:blipFill>
          <a:blip r:embed="rId1"/>
          <a:stretch/>
        </p:blipFill>
        <p:spPr>
          <a:xfrm>
            <a:off x="4248720" y="2743920"/>
            <a:ext cx="4908240" cy="3692880"/>
          </a:xfrm>
          <a:prstGeom prst="rect">
            <a:avLst/>
          </a:prstGeom>
          <a:ln w="0">
            <a:noFill/>
          </a:ln>
        </p:spPr>
      </p:pic>
      <p:sp>
        <p:nvSpPr>
          <p:cNvPr id="435" name="TextBox 3"/>
          <p:cNvSpPr/>
          <p:nvPr/>
        </p:nvSpPr>
        <p:spPr>
          <a:xfrm>
            <a:off x="152280" y="2743920"/>
            <a:ext cx="3923280" cy="3655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6600" spc="-1" strike="noStrike">
                <a:solidFill>
                  <a:srgbClr val="558ed5"/>
                </a:solidFill>
                <a:latin typeface="Calibri"/>
              </a:rPr>
              <a:t>Vocabulary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28600" y="1935000"/>
            <a:ext cx="891504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 Narrow"/>
              </a:rPr>
              <a:t>Organism</a:t>
            </a:r>
            <a:r>
              <a:rPr b="0" lang="en-US" sz="5400" spc="-1" strike="noStrike">
                <a:solidFill>
                  <a:srgbClr val="000000"/>
                </a:solidFill>
                <a:latin typeface="Arial Narrow"/>
              </a:rPr>
              <a:t>: a _______  ________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Organism is simply a science word we use to describe a _______ ______.  An organism could be a plant, animal or bacteria - ANYTHING that is _______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8" name="Picture 3" descr="C:\Documents and Settings\Administrator\Local Settings\Temporary Internet Files\Content.IE5\SGZQNAOC\MC900417478[1].wmf"/>
          <p:cNvPicPr/>
          <p:nvPr/>
        </p:nvPicPr>
        <p:blipFill>
          <a:blip r:embed="rId1"/>
          <a:stretch/>
        </p:blipFill>
        <p:spPr>
          <a:xfrm>
            <a:off x="6553080" y="4980600"/>
            <a:ext cx="1365840" cy="174060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3"/>
          <p:cNvSpPr>
            <a:spLocks noGrp="1"/>
          </p:cNvSpPr>
          <p:nvPr>
            <p:ph type="sldNum" idx="28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B3F02B-1B7C-4002-A88F-2C5AF7E2C77F}" type="slidenum"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Picture 4" descr="MC900434841[1]"/>
          <p:cNvPicPr/>
          <p:nvPr/>
        </p:nvPicPr>
        <p:blipFill>
          <a:blip r:embed="rId2"/>
          <a:stretch/>
        </p:blipFill>
        <p:spPr>
          <a:xfrm>
            <a:off x="0" y="0"/>
            <a:ext cx="164232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ounded Rectangle 3"/>
          <p:cNvSpPr/>
          <p:nvPr/>
        </p:nvSpPr>
        <p:spPr>
          <a:xfrm>
            <a:off x="300240" y="945000"/>
            <a:ext cx="8610120" cy="5783040"/>
          </a:xfrm>
          <a:prstGeom prst="roundRect">
            <a:avLst>
              <a:gd name="adj" fmla="val 16667"/>
            </a:avLst>
          </a:prstGeom>
          <a:solidFill>
            <a:schemeClr val="tx2">
              <a:lumMod val="7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3" name="TextBox 7"/>
          <p:cNvSpPr/>
          <p:nvPr/>
        </p:nvSpPr>
        <p:spPr>
          <a:xfrm>
            <a:off x="609480" y="4800600"/>
            <a:ext cx="7761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Compoun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8"/>
          <p:cNvSpPr/>
          <p:nvPr/>
        </p:nvSpPr>
        <p:spPr>
          <a:xfrm>
            <a:off x="609480" y="1219320"/>
            <a:ext cx="69854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Atom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9"/>
          <p:cNvSpPr/>
          <p:nvPr/>
        </p:nvSpPr>
        <p:spPr>
          <a:xfrm>
            <a:off x="609480" y="2362320"/>
            <a:ext cx="8042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Molecul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0"/>
          <p:cNvSpPr/>
          <p:nvPr/>
        </p:nvSpPr>
        <p:spPr>
          <a:xfrm>
            <a:off x="609480" y="3581280"/>
            <a:ext cx="8305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Elemen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1"/>
          <p:cNvSpPr/>
          <p:nvPr/>
        </p:nvSpPr>
        <p:spPr>
          <a:xfrm>
            <a:off x="146160" y="133200"/>
            <a:ext cx="89974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irection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rite a definition (short or long) for e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85880" y="23400"/>
            <a:ext cx="8107920" cy="13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rection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w 2-3 in each box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don’t worry if they could be in more than one box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Rounded Rectangle 3"/>
          <p:cNvSpPr/>
          <p:nvPr/>
        </p:nvSpPr>
        <p:spPr>
          <a:xfrm>
            <a:off x="609480" y="1646280"/>
            <a:ext cx="8076960" cy="5210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350" name="Straight Connector 5"/>
          <p:cNvCxnSpPr>
            <a:stCxn id="349" idx="0"/>
            <a:endCxn id="349" idx="2"/>
          </p:cNvCxnSpPr>
          <p:nvPr/>
        </p:nvCxnSpPr>
        <p:spPr>
          <a:xfrm>
            <a:off x="4647960" y="1645920"/>
            <a:ext cx="360" cy="5211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grpSp>
        <p:nvGrpSpPr>
          <p:cNvPr id="351" name="Group 10"/>
          <p:cNvGrpSpPr/>
          <p:nvPr/>
        </p:nvGrpSpPr>
        <p:grpSpPr>
          <a:xfrm>
            <a:off x="2286000" y="1646280"/>
            <a:ext cx="5257440" cy="516240"/>
            <a:chOff x="2286000" y="1646280"/>
            <a:chExt cx="5257440" cy="516240"/>
          </a:xfrm>
        </p:grpSpPr>
        <p:sp>
          <p:nvSpPr>
            <p:cNvPr id="352" name="TextBox 7"/>
            <p:cNvSpPr/>
            <p:nvPr/>
          </p:nvSpPr>
          <p:spPr>
            <a:xfrm>
              <a:off x="2286000" y="1646280"/>
              <a:ext cx="16761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Ato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Box 8"/>
            <p:cNvSpPr/>
            <p:nvPr/>
          </p:nvSpPr>
          <p:spPr>
            <a:xfrm>
              <a:off x="5638680" y="1646280"/>
              <a:ext cx="19047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Eleme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54" name="Straight Connector 11"/>
          <p:cNvCxnSpPr/>
          <p:nvPr/>
        </p:nvCxnSpPr>
        <p:spPr>
          <a:xfrm flipH="1">
            <a:off x="609480" y="4016160"/>
            <a:ext cx="8077680" cy="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355" name="TextBox 13"/>
          <p:cNvSpPr/>
          <p:nvPr/>
        </p:nvSpPr>
        <p:spPr>
          <a:xfrm>
            <a:off x="2181240" y="4191120"/>
            <a:ext cx="1676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olec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14"/>
          <p:cNvSpPr/>
          <p:nvPr/>
        </p:nvSpPr>
        <p:spPr>
          <a:xfrm>
            <a:off x="5638680" y="4191120"/>
            <a:ext cx="1828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aw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on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hat is both an               ATOM and an EL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aw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on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hat is both an               ELEMENT and a MOLEC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aw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on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hat is both a               MOLECULE and a COMP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aw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on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hat is both an               ATOM and a MOLEC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304920" y="2590920"/>
            <a:ext cx="8838720" cy="37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marL="26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3500" spc="-1" strike="noStrike" u="sng">
                <a:solidFill>
                  <a:srgbClr val="000000"/>
                </a:solidFill>
                <a:uFillTx/>
                <a:latin typeface="Arial Narrow"/>
              </a:rPr>
              <a:t>Use the chemical equation above to:</a:t>
            </a:r>
            <a:endParaRPr b="0" lang="en-US" sz="3500" spc="-1" strike="noStrike">
              <a:solidFill>
                <a:srgbClr val="ffffff"/>
              </a:solidFill>
              <a:latin typeface="Constantia"/>
            </a:endParaRPr>
          </a:p>
          <a:p>
            <a:pPr marL="713160" indent="-71316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erlin Sans FB"/>
              </a:rPr>
              <a:t>CIRCLE the reactant(s)</a:t>
            </a:r>
            <a:endParaRPr b="0" lang="en-US" sz="4200" spc="-1" strike="noStrike">
              <a:solidFill>
                <a:srgbClr val="ffffff"/>
              </a:solidFill>
              <a:latin typeface="Constantia"/>
            </a:endParaRPr>
          </a:p>
          <a:p>
            <a:pPr marL="713160" indent="-71316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erlin Sans FB"/>
              </a:rPr>
              <a:t>Put a BOX around the product(s)</a:t>
            </a:r>
            <a:endParaRPr b="0" lang="en-US" sz="4200" spc="-1" strike="noStrike">
              <a:solidFill>
                <a:srgbClr val="ffffff"/>
              </a:solidFill>
              <a:latin typeface="Constantia"/>
            </a:endParaRPr>
          </a:p>
          <a:p>
            <a:pPr marL="713160" indent="-71316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erlin Sans FB"/>
              </a:rPr>
              <a:t>Write one word or phrase for the ARROW: __________________</a:t>
            </a:r>
            <a:endParaRPr b="0" lang="en-US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1568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00" strike="noStrike">
                <a:solidFill>
                  <a:srgbClr val="f9f9f9"/>
                </a:solidFill>
                <a:latin typeface="Britannic Bold"/>
              </a:rPr>
              <a:t>Chemical Reactions (Quick Check)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7" name="TextBox 15"/>
          <p:cNvSpPr/>
          <p:nvPr/>
        </p:nvSpPr>
        <p:spPr>
          <a:xfrm>
            <a:off x="1905120" y="1371600"/>
            <a:ext cx="5638320" cy="1004040"/>
          </a:xfrm>
          <a:prstGeom prst="rect">
            <a:avLst/>
          </a:prstGeom>
          <a:solidFill>
            <a:schemeClr val="tx1">
              <a:lumMod val="7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Na + Cl </a:t>
            </a:r>
            <a:r>
              <a:rPr b="0" lang="en-US" sz="6000" spc="-1" strike="noStrike">
                <a:solidFill>
                  <a:srgbClr val="000000"/>
                </a:solidFill>
                <a:latin typeface="Wingdings"/>
              </a:rPr>
              <a:t></a:t>
            </a: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 NaC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1_Paper">
  <a:themeElements>
    <a:clrScheme name="Paper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2_Flow">
  <a:themeElements>
    <a:clrScheme name="Flow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2_Flow">
  <a:themeElements>
    <a:clrScheme name="Flow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1_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1_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</TotalTime>
  <Application>LibreOffice/7.4.7.2$Linux_X86_64 LibreOffice_project/40$Build-2</Application>
  <AppVersion>15.0000</AppVersion>
  <Words>504</Words>
  <Paragraphs>138</Paragraphs>
  <Company>Spring Lake Park Schools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7T13:23:45Z</dcterms:created>
  <dc:creator>User</dc:creator>
  <dc:description/>
  <dc:language>en-US</dc:language>
  <cp:lastModifiedBy>User</cp:lastModifiedBy>
  <cp:lastPrinted>2012-12-19T18:28:27Z</cp:lastPrinted>
  <dcterms:modified xsi:type="dcterms:W3CDTF">2013-11-17T21:02:35Z</dcterms:modified>
  <cp:revision>65</cp:revision>
  <dc:subject/>
  <dc:title>Matter – Quick Re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23</vt:r8>
  </property>
</Properties>
</file>